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CBBF-3FCD-49B7-8BE5-D8FAAAB59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5E39-E89D-4A66-BEE3-1968456B8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37E-F4B4-438F-832E-4DBFD9D13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3FA8-47A0-4BFB-8300-4F7F563F7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C53-90A0-49D7-9566-D124F9E8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6C2-66CE-48BB-B4F8-F136071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EA9E7-3E55-460A-89BA-AD309AC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CB5ED-9B53-418E-A791-2082F2E8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D2E23-CD12-45C7-B308-B0E5DA37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B0A37-03A2-4441-932C-170B1A6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E2705-BF12-4149-8C7B-C901464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33670-3DFF-4D1D-8909-C9E03C8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C3F6A-4E69-415A-A2DE-5E928CD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99B76-3F60-43F6-9765-332B2BC7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2C333-2044-4F45-A7FC-EFAF92E3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CC7E0-077D-46EC-A012-520DAD9B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2CB-C889-43EB-B577-A6DD7350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72D92-9857-4233-AD48-0BF54806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F27C9-6800-4305-9DB2-355A790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346B0-7FCA-45EA-904C-5E774034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A9225-3DAF-45E8-8569-DE07CDC1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263AD-B398-48F8-8578-CD67674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15BF6-343E-4E4A-92CB-0CA767C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9EBB6-C8BF-4E48-B688-3D0A553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5DB06-BC0E-4E31-A568-B26B118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6F72A-327E-49B7-98AC-AD47123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26D23-ED2F-4144-89BD-8D56E89C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375-6513-4358-9C18-2FF0E05A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07A95-1D43-4A5C-AD75-A2DC7742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F3F61-5378-4BB3-9F13-650349B6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ABBE-6918-4A8F-A949-1F26FC80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5E249-7591-4416-AB10-D400C3B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8178C-E40E-465A-B519-93094F5F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2504C-BFDE-4724-855B-549C9C3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8A642-A364-4DE9-9DE8-7FBB5420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0B6E3-DFFE-46C6-8B4D-61A84F6D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32707-4F6D-43B9-9232-7106028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3974D-C38E-4997-B5CE-24C17830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B33B-1679-4A2C-BF5A-5CDFA62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EAE37-D0DE-466C-8865-1E26024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9030F-E6DE-43CB-AFED-06AE787C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E0A06-4435-4933-ADDF-AE71FE12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96279-8C82-441A-8AFF-F91D90BA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EE5FF-0107-4E8F-9B88-3F9D152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9F519-00A7-4AD1-B603-1E89A587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905B1-685A-4716-A81B-B0BCC8A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4B94D-A7AC-4FA1-8F9B-5CEFB1E6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B0F4D-637E-4479-80A9-1379F4F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F5145-EE71-4107-B7C2-EB24EE2F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C720-05B3-43D9-A7AB-5B308B7E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78E7E-A694-4F57-8201-5445FB7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BD674-B273-4AB0-96FC-ED7E6588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2257D-0E5D-4D6B-82A5-64A75DB4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189F4-D080-4F74-92C9-9D4DE468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AF0B9-EAD6-497E-B652-2CDD9328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4336-BF48-490B-8A3A-5EBF2839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4385-EBB3-4074-B25F-0CDA8DF8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60EB-C824-47CA-968C-DA932D2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5353-7F06-4402-99EC-6354017C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0FA9-F687-498D-A113-0F42AA1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A8B-BB9B-4898-8CE6-9843B5FA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1AD9-723B-4336-816D-4154115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E78-B030-4A2F-8076-58EC5FA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5C43-8414-42CB-9B46-0D3B4A8D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BA82-4155-48CE-B2D9-4933E783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75FF-82B8-4808-B9A0-FF71EB81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4D7B-6145-4418-B4BF-DEF7A39C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699B-FFE9-4A31-A944-A6B8E20C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8767-F3C2-4649-8BB2-D632DA7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881F-F0F1-47F3-B605-EB6400EE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123E-DB7C-4324-9C63-5A8AD70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812-63FB-42BD-863A-F69D4F37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92BF-E573-4DB0-BF9B-EF339E04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4553-93EF-4571-A54F-28D74A39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8097-769C-4E6D-B42D-99B34EA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DBC6-93E3-45E4-BA8D-8776C37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7F64-ADE4-4389-BB3E-D5E073B2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C8B2-D9EE-4664-BF42-54A187E8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3913-3B15-4970-A444-B7BD0441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2F79-2E64-439C-97DB-02C1D79D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6802-F02A-4CDF-80D4-624766E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DF4D-7F26-4445-8907-37895F6F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249-BE51-49F1-832B-78E3E373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605B-14B2-48F9-9638-59037D22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1FF0-9480-4C45-B1D3-517B981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F7A4-2A61-4367-BEA1-F5EF4BBD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6318-BE43-48FF-A175-14D2C271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2B0C-2847-4CCE-ACD4-823DAD4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DBEB-A9BF-45EE-A055-CB83902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B31F-6ED8-445D-8468-F203EBDD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2EE6-82B9-48A6-A455-4586D3BF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B522-70BD-4299-AA25-DE0A4255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6E9F8-A9AA-4050-A694-98148698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F89-5F90-4B5E-A463-98932AD7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191F-EAD9-4CA0-8A91-FBFE11C3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EA47-9EAB-47DE-A9C1-B0458B46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0041-5FCD-4F8A-AEC1-2A2E4E7D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39ED1-2510-4325-98C3-A9B4BDE3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FBBA-79F0-4C88-B0F7-40F9317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692E-089F-4B4E-974A-4BC729D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5F26-513E-4C00-ACEC-D45F865A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53234-CEF0-4960-ABDD-5FDF3493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9D5E3-C777-4B32-A2C2-D8E769C3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9F6A9-002A-483C-A7B9-8C573509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AB0-8B53-4FA3-B5A6-8720452B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39DC-F64D-473E-BAC5-57435FE5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0762-95A0-43A9-88AF-8D78949D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835C3-78D6-472D-BACC-E9DD5CAB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3DEC-7D87-4C90-8A9B-F36DFA70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4E4D-1C76-4EAD-912F-62DAEEA7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DD62-6AB3-4457-A239-377DE2E7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7578-7A46-43C3-97C1-7E91B6F9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D3E8C-3F07-4EB5-8209-B0C312F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8A7D-E315-4A1A-9D15-A7FACF1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B3AD-6539-4E47-8A3D-F2BF96C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968-88BA-4B72-A0A0-009D8C1A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27D38-9C48-4891-A5E3-84DF345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66D1-EA6B-429E-9749-DBCEA9A6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FA6B3-2F13-42E5-B96D-BE8D85B1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1DD08-1C24-405D-96C1-97CA1F29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FA2E-4727-4CA8-979E-D876EC1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0AF89-0614-419B-AC59-C6F7C52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F9C6-A52C-45C6-B80F-170FF1FB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AC0E-B521-4C6C-BE5B-48064332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E2A43-F048-4445-A40F-B5146722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231F-F4D7-411A-B331-F5A018E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474-195F-4779-BB87-ACC04142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F67AC-2A3B-4A0D-A4EC-1D2C470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1BB1-112C-4AD6-A2E6-5C7A01AE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1864B-B5F3-4366-9106-A909CEB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65C59-3715-4596-A880-8076D5FE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21133-D16D-433A-A214-BC2CD56E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1F67D-8088-4B54-97E9-3016AC21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7B5C4-0D81-409C-8261-24A8FD17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BCC89-63FC-4131-AC58-DAC4A86C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10F4E-9805-4827-B45C-C466BC06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2C7D2-6B6B-4100-82A6-E24CEB37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CC7-AFBE-4E51-ADEA-52520C1B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8B759-EFF9-46B4-83A2-F0719E43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B5CD5-BCA4-4376-AC2F-1A65D2E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0F351-D6DE-4865-9EA5-6A7A831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F4652-524F-4DC0-B31D-2E1AA13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0823-BC5F-4AD9-8934-8326B26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AC51F-A455-4ED7-B125-F7FD3DDB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627B-334B-4D90-8098-9F113013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0724A-5F53-446B-AA97-5189E223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5FAC1-1537-4484-B466-59189D68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CADA6-8B78-42C9-8847-B6F7B7A3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D738-8872-4FAA-8EE3-6415B761582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D3CE4A0-A331-47AB-96F8-941C96968E16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BF46-3595-4744-BDE9-3AC0C7816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752-3555-4E49-9679-B08B6CAA8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3386-6148-4F5A-A008-C60CABA9118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800042F-0DFB-485A-83D2-C14ED0FFA645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6D76-25AC-4DDC-A63E-68434392CC4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11CF592-593A-4120-84C4-EF829639B31E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FFF3-BEC7-4DAF-82D0-512CF1A8F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605-6D27-4864-A1D0-C6DC4B05F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DF8-47B2-4242-AD87-D1829F1486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A4A0372-3058-4741-A04E-C4E5543ACE4F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8D96-3F9A-458E-93B4-3996B562390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BE3CCB5-B239-49F2-91EA-DBD031209517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C21-1EE3-490B-8116-DF79617D6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9041-72B5-433E-AD3F-CB1B3CEDFE6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6BF92DA-5B34-40D6-9581-CAE3611A8A85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169-00CD-4582-8439-0E225FD39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320E-BE1C-4A09-AC01-8EFD171402C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4A58620-E683-483C-8C9E-4BDD2950E4C8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848-38B3-43CA-AC70-50E076747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D3FC-8575-4148-A62A-DDF604D3632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A72769A-CFE7-4006-BF75-BCBD40BE81C6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3E9B-3D0A-47BA-8B5C-D975EECF1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6705-C53F-4F45-897A-1BC014D839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84C9AEF-6FA8-497A-997A-56C41554D21B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6283-7F1A-4AAE-A5B6-270190D2CA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9E5F-D22E-4571-85B1-71659B9CA19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3D0288C-CB49-4DB2-831C-F7573F67B3B4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91D5-3CDD-48FF-AB03-7B5AF0E65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9B41-6351-4662-A90F-D54BAD58A45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96AAAA8-4378-4DB8-AE99-099947C25BD6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C10-A9CC-4BD1-9BA5-E643DAB3A9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08AA-1F85-47BE-9C43-112D1B5FF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5B01-E513-44BB-8133-5A5D560CE26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97F4E42-E2B5-4C4F-ABFB-39CD1DEBF205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90360" y="5562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STAYCLE DUPLICH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HTTP://STAYCLE.WIKISPACES.COM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EXCEL Formulas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October 13, 2011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ARTS OF A WORKSHEET/SPREADSHEET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-152280" y="1452600"/>
            <a:ext cx="899136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mula Symbo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di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trac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ltiplic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/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vi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^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ponenti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+ add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lt;&gt;not equal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 greater tha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=greater than or equal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lt; less tha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lt;=less than or equal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3,99,-47)"/>
                                      </p:to>
                                    </p:set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3,99,-47)"/>
                                      </p:to>
                                    </p:set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der of Op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28600" y="1142640"/>
            <a:ext cx="8577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y operations that are in parentheses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om left to righ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onentiation (^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ltiplication (*) and division (/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ition (+) and subtraction (-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6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048040" cy="230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2971800" y="1066680"/>
            <a:ext cx="2049480" cy="228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Way To Construct a 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204804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5" name="Picture 8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2666880" cy="238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6" name="Picture 9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2104920" cy="233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7" name="TextBox 11"/>
          <p:cNvSpPr/>
          <p:nvPr/>
        </p:nvSpPr>
        <p:spPr>
          <a:xfrm>
            <a:off x="1522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lick in any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2590920" y="34290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egin with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4724280" y="3429000"/>
            <a:ext cx="42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rite function and open pare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>
            <a:off x="468720" y="63244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Highligh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396252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lose parenthesis and ent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1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830400" cy="32767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other Way To Calculate A 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267080" cy="3506760"/>
          </a:xfrm>
          <a:prstGeom prst="rect">
            <a:avLst/>
          </a:prstGeom>
          <a:ln w="0">
            <a:noFill/>
          </a:ln>
        </p:spPr>
      </p:pic>
      <p:pic>
        <p:nvPicPr>
          <p:cNvPr id="635" name="Straight Arrow Connector 8" descr=""/>
          <p:cNvPicPr/>
          <p:nvPr/>
        </p:nvPicPr>
        <p:blipFill>
          <a:blip r:embed="rId3"/>
          <a:stretch/>
        </p:blipFill>
        <p:spPr>
          <a:xfrm>
            <a:off x="5565600" y="429084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9"/>
          <p:cNvSpPr/>
          <p:nvPr/>
        </p:nvSpPr>
        <p:spPr>
          <a:xfrm>
            <a:off x="472428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um of Test 2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Straight Arrow Connector 4" descr=""/>
          <p:cNvPicPr/>
          <p:nvPr/>
        </p:nvPicPr>
        <p:blipFill>
          <a:blip r:embed="rId4"/>
          <a:stretch/>
        </p:blipFill>
        <p:spPr>
          <a:xfrm>
            <a:off x="7547040" y="950760"/>
            <a:ext cx="304560" cy="75564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1"/>
          <p:cNvSpPr/>
          <p:nvPr/>
        </p:nvSpPr>
        <p:spPr>
          <a:xfrm>
            <a:off x="304920" y="16002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will app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highlight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mportant Inform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Does not matter if formula is written in caps or lower c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(cell:cell) all of the data from first cell to last ce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(cell,cell) the data from first cell and last cell on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A formula can be dragged instead of typing it in every cel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how Formul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01040" cy="1400400"/>
          </a:xfrm>
          <a:prstGeom prst="rect">
            <a:avLst/>
          </a:prstGeom>
          <a:ln w="0">
            <a:noFill/>
          </a:ln>
        </p:spPr>
      </p:pic>
      <p:sp>
        <p:nvSpPr>
          <p:cNvPr id="643" name="Oval 4"/>
          <p:cNvSpPr/>
          <p:nvPr/>
        </p:nvSpPr>
        <p:spPr>
          <a:xfrm>
            <a:off x="7543800" y="2590920"/>
            <a:ext cx="12193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6"/>
          <p:cNvSpPr/>
          <p:nvPr/>
        </p:nvSpPr>
        <p:spPr>
          <a:xfrm>
            <a:off x="762120" y="2590920"/>
            <a:ext cx="1066680" cy="6858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00:36Z</dcterms:created>
  <dc:creator/>
  <dc:description/>
  <dc:language>en-US</dc:language>
  <cp:lastModifiedBy/>
  <dcterms:modified xsi:type="dcterms:W3CDTF">2011-10-13T15:40:17Z</dcterms:modified>
  <cp:revision>2</cp:revision>
  <dc:subject/>
  <dc:title>EXCEL BASICS MARCH 24,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